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353-68EE-435B-A5C9-4191FB72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F39-7844-43FA-9E9A-96C0C72C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843-4100-4BBE-87DD-A7141DAE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07F-0474-447A-B293-A06821F2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DFF-4E8B-4325-8175-0B4AE278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334D-472D-4BE1-B98D-1FBF6818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682-D90D-4AA7-8FFE-B83EFE34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475-CBF6-41B4-BE85-4F0D3D4B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1DE-0381-4A83-A958-D38984DD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2C4-EA0C-482A-9325-E60EFFA7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9D2-F52B-4456-B0E9-EBDF48EE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280-24ED-46AB-A73E-2BD62389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4BF0-CA69-4B9A-BEC1-B56E8D265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xit" presetID="21" presetSubtype="1">
                                  <p:stCondLst>
                                    <p:cond delay="4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680" y="19080"/>
            <a:ext cx="9080640" cy="8134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2-06-22T08:02:0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